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EDCC-51DD-4C0A-93A0-6867927F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D830-0810-49F5-9B5F-4028F235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02B2-9C78-44B1-A6C6-F57451AE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8907-D0CD-4245-A037-6BE6BEA2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3003-E198-4395-934F-EE098FA2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F3CA-1806-4A25-96B8-5C0CC8E8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C884-18C4-4210-B962-D1C9A6EA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8D25-86B0-4479-81E9-58AD7B7E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4C9C-3850-4D49-9E5A-1FB16C18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EEDB-EB01-454F-B627-94BCA763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0088-A061-4CFD-96E2-6A486A93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812E-FD62-4991-B70A-BEA79865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156C-E4A1-4F67-B073-37DB167D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8831-4170-43C1-8E9A-B3CE043F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2A38-5A71-4324-BE01-BDCFA05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95B3-3C74-447A-B28E-EAFE01C4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5BFF-380D-4577-AD7D-78AF440D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1A79-5617-44E9-9226-7748519F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4D37-D5E7-4E7A-877C-6E013544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AD83-DA72-4245-BFC8-38BE2DEA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9F5C-2ACA-4AEA-B674-CBEAD4CE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E5BD-AED2-4812-BAA3-1B00B9A8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A1D6E-0C15-4415-A634-B95EA81C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22E9-439B-4BB7-8D5F-E423D3E3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C3BB-37D7-45E1-B890-7261E54673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C555-51CC-47B9-8ED9-EB56F33658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9840" y="1125360"/>
            <a:ext cx="87138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Чем является куб для нас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5" descr="670556"/>
          <p:cNvPicPr/>
          <p:nvPr/>
        </p:nvPicPr>
        <p:blipFill>
          <a:blip r:embed="rId1"/>
          <a:stretch/>
        </p:blipFill>
        <p:spPr>
          <a:xfrm>
            <a:off x="395280" y="2924280"/>
            <a:ext cx="824400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 время как сфера в качестве изначального состояния олицетворяет циклическое состояние и движение, куб является финальной стадией этого цикла в неподвижности, и символически вписывается в 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2" descr="111"/>
          <p:cNvPicPr/>
          <p:nvPr/>
        </p:nvPicPr>
        <p:blipFill>
          <a:blip r:embed="rId1"/>
          <a:stretch/>
        </p:blipFill>
        <p:spPr>
          <a:xfrm>
            <a:off x="826920" y="0"/>
            <a:ext cx="2376720" cy="2257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3" descr="2222"/>
          <p:cNvPicPr/>
          <p:nvPr/>
        </p:nvPicPr>
        <p:blipFill>
          <a:blip r:embed="rId2"/>
          <a:stretch/>
        </p:blipFill>
        <p:spPr>
          <a:xfrm>
            <a:off x="6084720" y="4371840"/>
            <a:ext cx="252288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. 10"/>
          <p:cNvSpPr/>
          <p:nvPr/>
        </p:nvSpPr>
        <p:spPr>
          <a:xfrm>
            <a:off x="539640" y="1413000"/>
            <a:ext cx="820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б является истиной, которая все время одинакова как на нее ни посмотри. Это завершенность, стабильность, статическое совершенство, безукоризненный закон. Это также сложенный кр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2" descr="222"/>
          <p:cNvPicPr/>
          <p:nvPr/>
        </p:nvPicPr>
        <p:blipFill>
          <a:blip r:embed="rId1"/>
          <a:stretch/>
        </p:blipFill>
        <p:spPr>
          <a:xfrm>
            <a:off x="4859280" y="3716280"/>
            <a:ext cx="358776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. 19"/>
          <p:cNvSpPr/>
          <p:nvPr/>
        </p:nvSpPr>
        <p:spPr>
          <a:xfrm>
            <a:off x="395280" y="83664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радиционной архитектуре куб как символ стабильности используется в качестве фундаментального камня-основания нижней части здания вкупе с округлостью свода в качестве выс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0" descr="cube"/>
          <p:cNvPicPr/>
          <p:nvPr/>
        </p:nvPicPr>
        <p:blipFill>
          <a:blip r:embed="rId1"/>
          <a:stretch/>
        </p:blipFill>
        <p:spPr>
          <a:xfrm>
            <a:off x="4284720" y="3284640"/>
            <a:ext cx="4457520" cy="31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. 17"/>
          <p:cNvSpPr/>
          <p:nvPr/>
        </p:nvSpPr>
        <p:spPr>
          <a:xfrm>
            <a:off x="0" y="907920"/>
            <a:ext cx="782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итайцев куб - божество Земли, тогда как сфера является небесным симво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. 18"/>
          <p:cNvSpPr/>
          <p:nvPr/>
        </p:nvSpPr>
        <p:spPr>
          <a:xfrm>
            <a:off x="0" y="2708280"/>
            <a:ext cx="70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сламе Кааба - это куб, стабильность, статическое соверш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. 19"/>
          <p:cNvSpPr/>
          <p:nvPr/>
        </p:nvSpPr>
        <p:spPr>
          <a:xfrm>
            <a:off x="2940120" y="2060640"/>
            <a:ext cx="62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евреев куб - это Святая Свя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. 20"/>
          <p:cNvSpPr/>
          <p:nvPr/>
        </p:nvSpPr>
        <p:spPr>
          <a:xfrm>
            <a:off x="3086280" y="3860640"/>
            <a:ext cx="60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майя куб - Земля; Древо Жизни растет из центра ку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1" descr="2641053"/>
          <p:cNvPicPr/>
          <p:nvPr/>
        </p:nvPicPr>
        <p:blipFill>
          <a:blip r:embed="rId1"/>
          <a:stretch/>
        </p:blipFill>
        <p:spPr>
          <a:xfrm>
            <a:off x="250920" y="4005360"/>
            <a:ext cx="266364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84692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300" spc="-1" strike="noStrike">
                <a:solidFill>
                  <a:srgbClr val="ce5308"/>
                </a:solidFill>
                <a:latin typeface="Arial"/>
              </a:rPr>
              <a:t>Спасибо за внимание!!!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1:12:12Z</dcterms:created>
  <dc:creator>Admin</dc:creator>
  <dc:description/>
  <dc:language>en-US</dc:language>
  <cp:lastModifiedBy>26529</cp:lastModifiedBy>
  <dcterms:modified xsi:type="dcterms:W3CDTF">2010-06-04T10:11:46Z</dcterms:modified>
  <cp:revision>11</cp:revision>
  <dc:subject/>
  <dc:title>КУБ И ЕГО СВОЙСТВА</dc:title>
</cp:coreProperties>
</file>